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6D2-6C3F-4FBB-BFA0-5970E455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501-DC31-438D-BFBD-1B889BA7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5A8-30A9-4EE9-BBA6-5F7C11BB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D91-1D0A-4963-85BE-7E849A21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5EB-AC25-485D-A80C-64530EE0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DA9-E11A-48A5-874E-2EC0E883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9B7-E91E-422D-95B3-24A73443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956-B064-4FFA-A2F8-C78BEEDE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025-BDD5-4600-8ADF-501A02B6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2BA-5B42-441F-BEED-373A92D0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ACD2-7780-439D-A7DA-D030C8E8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202-0355-452E-B9FB-55DE118A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A069-B78B-425E-832B-F3B1FA9DD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76320"/>
            <a:ext cx="6629400" cy="6629400"/>
            <a:chOff x="1143000" y="76320"/>
            <a:chExt cx="6629400" cy="6629400"/>
          </a:xfrm>
        </p:grpSpPr>
        <p:sp>
          <p:nvSpPr>
            <p:cNvPr id="42" name=""/>
            <p:cNvSpPr/>
            <p:nvPr/>
          </p:nvSpPr>
          <p:spPr>
            <a:xfrm>
              <a:off x="1143000" y="76320"/>
              <a:ext cx="6629400" cy="6629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495680" y="76320"/>
              <a:ext cx="0" cy="662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43000" y="342900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905120" y="1371600"/>
              <a:ext cx="5181480" cy="41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81080" y="1219320"/>
              <a:ext cx="4876920" cy="441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8:37:54Z</dcterms:created>
  <dc:creator>Dina Winterton</dc:creator>
  <dc:description/>
  <dc:language>en-US</dc:language>
  <cp:lastModifiedBy>Dina Winterton</cp:lastModifiedBy>
  <dcterms:modified xsi:type="dcterms:W3CDTF">2010-03-24T18:43:11Z</dcterms:modified>
  <cp:revision>3</cp:revision>
  <dc:subject/>
  <dc:title>Slide 1</dc:title>
</cp:coreProperties>
</file>